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FDAF-1FAE-411B-83B8-A13B63F3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ads) x 23 (programs) integer grid: 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screenings per ad per pr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nstraint, can’t screen commercial more than once per break – this indicates the number of breaks per program. You will see that no cell within the grid, in that column has a number greater tha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ad slots per pr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ssumes each ad is 30 seconds, so you can’t assign more (number of breaks x duration of breaks/.5) ads than you have tim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G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umber of times the ad will air during that program x the GRP for tha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umber of times the ad will air during that program x the CPM for tha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PMs are not created equal = some ads want to target an audience that is more expensive to 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kimo, “New Tropical Falvors” could only air before 6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rn Home Video, “Professors Gone Wild” could only air after 8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s Ale, “Juran Loves It!” could only air after 6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of solver limitation, our commercials were limited to 8 (23X8=184), we originally had 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didn’t use evolutionary solver, we g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worked for up to 4 commerc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we received an: “unexpected error, insufficient memory” message after it had run for 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that this is a shortcoming. Perhaps in nex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ommodate commercials in increments other than 30 seconds, we would have needed 2 grids and constraints would need to have been dynamic. Perhaps in nex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alty = unmet GRP x 5. We chose 5 – can play around with it and assign different priorities to different clients in order of importance. We gave them all the same pen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F48-71B0-4B49-8AB0-62667470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0AC-EA86-4C42-9C9C-83DB2078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38F-693D-45F9-8694-CF43A64E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AFA-D1CA-4C45-9512-BEDF52E2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58F-E26B-4A49-BEDD-23B692A2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CE5-7674-461C-8D11-649231FB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A75F-EE4D-4CA8-8DF7-DC7C5645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81A-D27C-4B55-AF35-87A4AE9B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8313-39D1-4BDE-8E96-657BAE5C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2557-59FB-4605-9FAB-063BC21F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962-0B0A-4FE4-BB85-C1FE99B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E0C-A175-4263-8239-58E1AB45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1653-1760-4E91-84C5-A47B0F3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282B-087D-486F-9C5B-E647E3B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475-D9A1-44B6-910F-2C988EF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82D2-F9FE-4DDC-B45E-4277B5D8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8251-4E1B-4888-AFA9-0D6A2FE3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A40-1234-4287-A62A-F921588F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F69-D7A2-4B44-9AA4-418B33C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97C-748A-4BB8-A1EC-5375BC4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BD2-665A-462B-B1CA-B0887B0D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D59-4BB2-4EC7-A7AF-51D5A0C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CDD-E02D-4685-BF34-DC01C5C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DB3-2D13-4A3F-825B-2184D9B6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949-0315-49A4-9808-27FE7C6630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D6E-9BE1-4463-9D87-4139A07846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TV Spot Project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7024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ssigning Commercials to TV Spo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82920" y="5130720"/>
            <a:ext cx="189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1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er 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ri D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aki Nagasa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ejandro Sa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r model: 8 (commercials) x 23 (programs) (integer)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5105520"/>
            <a:ext cx="7543800" cy="160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763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Overview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C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exceed available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run more than once per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me commercials can’t air at certain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nalty for unmet G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36252" t="34376" r="36252" b="35158"/>
          <a:stretch/>
        </p:blipFill>
        <p:spPr>
          <a:xfrm>
            <a:off x="5410080" y="40384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reach target GR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lowest possible CPM (total of $2,560 for all eight cli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me receives $640 (25% of the CP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3681360"/>
            <a:ext cx="8458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ults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3678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halleng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model was too much for Solver, Excel couldn’t handle 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r can’t accommodate &gt; 200 decision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orked with Evolutionary S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d on minimizing CPM, not maximizing Comprame’s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orks with commercials in 30 second increment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&amp;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ject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ame is an advertising agency dealing exclusively with Channel 2 in Managua, Nicaragu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ry week Comprame receives orders from several clients to allocate commercials among spots available on Channel 2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ame receives 25% of the total client ad dollars spent as reven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ject Overview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lient has the following criter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ach target demographic au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oss Ratings Poi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GRP): sum total ratings points that the client wants to achieve, within their target demographic, for that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a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 (Demo Universe/100) X Demo 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 cheaply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st per Thous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PM) = (Cost per Spot/Demo Rating) X 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me Client and Spot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409840"/>
            <a:ext cx="8534520" cy="277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409840" y="5562720"/>
            <a:ext cx="1933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fessors Gone WILD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ncun 2003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75479" b="0"/>
          <a:stretch/>
        </p:blipFill>
        <p:spPr>
          <a:xfrm>
            <a:off x="380880" y="5597640"/>
            <a:ext cx="1752840" cy="6508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858000" y="5105520"/>
            <a:ext cx="1828440" cy="1600200"/>
            <a:chOff x="6858000" y="5105520"/>
            <a:chExt cx="1828440" cy="16002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rcRect l="0" t="16673" r="0" b="0"/>
            <a:stretch/>
          </p:blipFill>
          <p:spPr>
            <a:xfrm>
              <a:off x="6858000" y="5181840"/>
              <a:ext cx="11703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858000" y="5943960"/>
              <a:ext cx="11703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08760" y="5105520"/>
              <a:ext cx="877680" cy="304920"/>
            </a:xfrm>
            <a:prstGeom prst="wedgeRectCallout">
              <a:avLst>
                <a:gd name="adj1" fmla="val -66319"/>
                <a:gd name="adj2" fmla="val 165106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ke i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5"/>
          <a:srcRect l="22921" t="11610" r="37702" b="18839"/>
          <a:stretch/>
        </p:blipFill>
        <p:spPr>
          <a:xfrm>
            <a:off x="4952880" y="5715000"/>
            <a:ext cx="121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nel 2’s Commercial Sp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9906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nnel 2’s Ratings Inform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990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nagerial Problem Defini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locate commercials in time slots so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ommercial reaches target GRP of specific demographic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 CPM for that target demographic is minimiz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nsidered the fol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lot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ngth of slots and commerc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f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en to air commercials and reach target audience (GRP) with lowest cost (CP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C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exceed available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me commercials can’t air at certain ti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kimo, “New Tropical Flavors” only before 6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rn Home Video, “Professors Gone Wild” only after 8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ss Ale, “Juran Loves It!” only after 6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 can’t run more than once per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ent needs to reach target G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6:42:21Z</dcterms:created>
  <dc:creator>Lori Dorr</dc:creator>
  <dc:description/>
  <dc:language>en-US</dc:language>
  <cp:lastModifiedBy>Lori Dorr</cp:lastModifiedBy>
  <dcterms:modified xsi:type="dcterms:W3CDTF">2003-04-30T20:28:31Z</dcterms:modified>
  <cp:revision>39</cp:revision>
  <dc:subject/>
  <dc:title>TV Spot Project </dc:title>
</cp:coreProperties>
</file>